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3EF-7184-4BC3-B855-C4E43EA4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D84-C49C-4841-B8BD-42BBC7E8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0ED-1F75-4A1D-8107-C00EE653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DC1-2DED-47ED-86EA-FD091D3D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C834-8AC1-420F-B8E5-B0D7563C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22A7-BA84-4B21-8F85-4A8326D9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4E17-B143-4D2B-B9E9-C227F9F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3AF5-A62E-4E9F-A177-B36BD87B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5F4B-1A30-463A-B0F4-6A041686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A85F-4F1E-4F8F-9CAD-31F2E4C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3F78-04E4-483C-A45A-F1060C1B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C6E-38E2-43A5-BBD9-1DCF7223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D420-F8AC-4776-B592-D6B43418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99A8-3C39-496A-8317-AEF2BCD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9D40-B8F2-41CC-82FB-94FF0AE8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10B0-2279-4627-9726-FE5DDF1A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F286-517A-4FB2-B6F6-3B33B181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DB1-3A9E-4BA3-88EF-1C83E34D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C89-6AF5-4C97-A7F1-A9DF1606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4BA-4CE2-42EB-B807-0AA8AABC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C65-4140-4EDF-81A2-0E104C3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2F4-A80D-4B9D-9510-2436F00E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010-82AD-488D-B433-BC2A848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20A-1D58-417D-80C2-F89361FE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53D3-6B5C-494F-BA2C-778C3DBD2F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B9A3-9A1D-4BBC-84AE-7442296359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y do you think the titanic s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124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hich on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52480" y="2590920"/>
            <a:ext cx="9907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343400" y="2514600"/>
            <a:ext cx="205740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09680" y="2819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228600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5146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Density =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mass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OR     mass ÷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Units for density: </a:t>
            </a:r>
            <a:r>
              <a:rPr b="0" lang="en-US" sz="3200" spc="-1" strike="noStrike" u="sng">
                <a:solidFill>
                  <a:srgbClr val="1919ff"/>
                </a:solidFill>
                <a:uFillTx/>
                <a:latin typeface="Arial"/>
              </a:rPr>
              <a:t> g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1919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72200" y="3352680"/>
            <a:ext cx="1676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MEMBER UNI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try a density problem togeth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has a paper clip. It has a mass of 9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an eraser. It has a mass of 3g, and a volume of 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its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se problems with your neigh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has a rock. The rock has a mass of 6g and a volume of 3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r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 has a gel pen. The gel pen has a mass of 8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w, try these on your ow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 has a watch. It has a mass of 4g and a volume of 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 has a wallet. It has a mass of 15g and a volume of 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hat is the density of the wal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19ff"/>
                </a:solidFill>
                <a:latin typeface="Arial"/>
              </a:rPr>
              <a:t>Liquid Lay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If you pour liquids together that don’t mix and have different densities, they will form liquid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high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quid with th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low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lang="en-US" sz="3200" spc="-1" strike="noStrike">
                <a:solidFill>
                  <a:srgbClr val="1919ff"/>
                </a:solidFill>
                <a:latin typeface="Arial"/>
              </a:rPr>
              <a:t>on the 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-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ayer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ayer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have the following dens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umber would go with which lay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ensity column 3"/>
          <p:cNvPicPr/>
          <p:nvPr/>
        </p:nvPicPr>
        <p:blipFill>
          <a:blip r:embed="rId1"/>
          <a:srcRect l="0" t="0" r="66146" b="59639"/>
          <a:stretch/>
        </p:blipFill>
        <p:spPr>
          <a:xfrm>
            <a:off x="6095880" y="1523880"/>
            <a:ext cx="271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quid Layers-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high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lowest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quid has the middle dens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DensityColumn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quid Layers-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the liquids on the right have the following dens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10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9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12g/c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the colors to the correct den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density column 2"/>
          <p:cNvPicPr/>
          <p:nvPr/>
        </p:nvPicPr>
        <p:blipFill>
          <a:blip r:embed="rId1"/>
          <a:srcRect l="32079" t="5402" r="37737" b="24165"/>
          <a:stretch/>
        </p:blipFill>
        <p:spPr>
          <a:xfrm>
            <a:off x="4876920" y="152388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5341680" y="25146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7627680" y="3124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493960" y="3809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7627680" y="44956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265360" y="502920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7772400" y="5638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257800" y="2590920"/>
            <a:ext cx="9907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562720" y="3809880"/>
            <a:ext cx="7617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334120" y="5029200"/>
            <a:ext cx="9144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7620120" y="3124080"/>
            <a:ext cx="8380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7620120" y="4495680"/>
            <a:ext cx="99036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7772400" y="5638680"/>
            <a:ext cx="9144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ormula for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you pour together liquids that have different dens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top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liquid on the bottom have the highest or lowest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oyancy and Buoyant For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oyancy -The ability to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on a submerge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nd other fluids exert an upward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in the direction opposite to the force of gravity so it makes an object feel li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038560" y="2484360"/>
            <a:ext cx="32576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avity and Buoyant For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4479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of a submerged object is a downward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sinks if pressure is 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ight is equal to buoyant force the object will float either partly submerged or totally(depends on w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weight will float- like a jelly fish; Greater weight will 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23840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s://encrypted-tbn1.gstatic.com/images?q=tbn:ANd9GcR9A09J8nMkJLp8RcmFRJ1tycTRCL0oxtUcPb_AyssMkFabqyjU"/>
          <p:cNvPicPr/>
          <p:nvPr/>
        </p:nvPicPr>
        <p:blipFill>
          <a:blip r:embed="rId2"/>
          <a:stretch/>
        </p:blipFill>
        <p:spPr>
          <a:xfrm>
            <a:off x="5486400" y="3344760"/>
            <a:ext cx="36576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chimedes’ Princi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ian of ancient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: the buoyant force acting on a submerged object is equal to the weight of the fluid the object dis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suppose your body displaces 50 liters of water in a swimming pool…The buoyant force exerted on you will be equal to the weight of 50 liters of water or about 500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oyancy Vide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rainpop.com/science/motionsforcesandtime/buoyanc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is a comparison of how much matter there is in a certain amount of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ing Dens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32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an object sink or float in a fluid by changing d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ce expands when freezes and occupies more space then liquid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helium in a balloon which is less dense then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81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nsity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rainpop.com/science/matterandchemistry/measuringmatte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ich one is more den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: People in a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: Which square is more d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447920" y="403848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334120" y="4038480"/>
            <a:ext cx="190476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167652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1905120" y="5410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2666880" y="46483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297180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5943600" y="42670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6477120" y="43434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7"/>
          <p:cNvSpPr/>
          <p:nvPr/>
        </p:nvSpPr>
        <p:spPr>
          <a:xfrm>
            <a:off x="6095880" y="4952880"/>
            <a:ext cx="15264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6477120" y="48006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6858000" y="4495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0"/>
          <p:cNvSpPr/>
          <p:nvPr/>
        </p:nvSpPr>
        <p:spPr>
          <a:xfrm>
            <a:off x="6324480" y="52578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1"/>
          <p:cNvSpPr/>
          <p:nvPr/>
        </p:nvSpPr>
        <p:spPr>
          <a:xfrm>
            <a:off x="6934320" y="5029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571500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3"/>
          <p:cNvSpPr/>
          <p:nvPr/>
        </p:nvSpPr>
        <p:spPr>
          <a:xfrm>
            <a:off x="693432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4"/>
          <p:cNvSpPr/>
          <p:nvPr/>
        </p:nvSpPr>
        <p:spPr>
          <a:xfrm>
            <a:off x="54100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5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6"/>
          <p:cNvSpPr/>
          <p:nvPr/>
        </p:nvSpPr>
        <p:spPr>
          <a:xfrm>
            <a:off x="6477120" y="56386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7"/>
          <p:cNvSpPr/>
          <p:nvPr/>
        </p:nvSpPr>
        <p:spPr>
          <a:xfrm>
            <a:off x="6172200" y="46483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8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6629400" y="5334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35:32Z</dcterms:created>
  <dc:creator>Rebecca Walter</dc:creator>
  <dc:description/>
  <dc:language>en-US</dc:language>
  <cp:lastModifiedBy>LCS Staff</cp:lastModifiedBy>
  <dcterms:modified xsi:type="dcterms:W3CDTF">2014-01-03T17:23:56Z</dcterms:modified>
  <cp:revision>16</cp:revision>
  <dc:subject/>
  <dc:title>Density</dc:title>
</cp:coreProperties>
</file>